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E8D3-52C9-4771-9626-8B40226C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246-7999-4748-AD1F-677CB81C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4E6-77FA-423E-87D7-9A1D7BB6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95A-2E36-49D4-8E56-E5A93B9B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834F-779C-4466-8B8A-8BE92008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A211-44FE-45D1-8894-12A62855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550F-9DB1-4C11-8FBE-FED8F28A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5A67-06C5-4876-8C72-18824D64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D950-335A-447B-8C1A-A66CAC8F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DF41-D686-47BA-9A6C-05035C28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C7ED-528C-4E66-849C-DBD52109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B71-342D-4664-88A6-C1CA2847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A785-73E2-462C-BB5A-DE2CD1A7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2B50-A2FE-4A59-9A08-FD47B3F5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86E1-BCA7-414D-A601-0735AAAA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6EB5-0D82-4BDC-91FF-47E96692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F86E-B830-48C7-9D82-6D858549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E5B-86B0-4D15-B376-3674C938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9E9-1B32-45D7-8C7D-CB68DC22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F02-46B8-43B0-AF49-6E142448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118-B814-4253-8475-CB7947AF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BE2-45EE-4811-AD3D-27300351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22CC-2C60-4D11-B7BB-75404CBA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778-4B39-4BC6-BED9-782CC072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9BAA-B793-4106-BA89-D7270C8EF5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1216-113C-48DA-9354-74D543B2C7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Maiandra GD"/>
              </a:rPr>
              <a:t>Writing Sandwi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4395960" cy="4222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076720" y="21337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364500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869000"/>
            <a:ext cx="23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1700280"/>
            <a:ext cx="1942920" cy="78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Para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4581360"/>
            <a:ext cx="1942920" cy="78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 Para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48360" y="2997360"/>
            <a:ext cx="1943280" cy="1334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dle Paragrap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ew topic = New paragraph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2:22:41Z</dcterms:created>
  <dc:creator>menb</dc:creator>
  <dc:description/>
  <dc:language>en-US</dc:language>
  <cp:lastModifiedBy>menb</cp:lastModifiedBy>
  <dcterms:modified xsi:type="dcterms:W3CDTF">2008-03-29T21:02:24Z</dcterms:modified>
  <cp:revision>4</cp:revision>
  <dc:subject/>
  <dc:title>Writing Sandwich</dc:title>
</cp:coreProperties>
</file>